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ECA-9422-45EB-8010-69119FAD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E7F-BBFC-480F-B36F-9C7D2908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3BA-7AA1-4D56-857F-AD0C6671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C4F-F991-4C96-8435-E6840547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4E7D-8856-445D-A077-B55CA8A5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6471-4EFA-4461-AE06-5A79D64D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8FE2-E253-415A-BAB5-A6B28B7B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6CDB-7BD7-4094-B761-6FDD1D69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28C4-C5DD-436B-A48D-334E4D8C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1091-C771-463E-A784-10BF6A20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8982-7BD1-4B12-9D1E-0CB36181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CA6-6DE2-4CAA-91CF-915ABE0D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04FA-41C2-4051-AD68-54A3B9A4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D41-BB9C-4FB1-8F61-75F93E7A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18FA-12CF-486F-84E5-808ECD43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9F77-CFDF-4CDD-9057-64747B08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0D1F-8D19-40EF-93FF-8E2793F4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87E-596F-4859-BDB4-DCF73A4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071-3FE1-4DCF-8F16-10F3B02B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DE7-B3BF-4072-B310-CCEBF39E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7744-B046-4D4E-9401-8FE39329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B21-35E6-4AC9-866A-96EB42DD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DAF-A9B7-40C0-A7AD-5C91E592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E54-94C9-4533-AB5E-737340B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3C30-DF76-4CE0-8BEF-4673717566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BD0C-974A-4C3D-B3D0-997CF7DE9DE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76320"/>
          <a:ext cx="8915400" cy="5668920"/>
        </p:xfrm>
        <a:graphic>
          <a:graphicData uri="http://schemas.openxmlformats.org/drawingml/2006/table">
            <a:tbl>
              <a:tblPr/>
              <a:tblGrid>
                <a:gridCol w="4114800"/>
                <a:gridCol w="1524240"/>
                <a:gridCol w="1447560"/>
                <a:gridCol w="1828800"/>
              </a:tblGrid>
              <a:tr h="1298520"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Название величин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Обозначе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633240"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1.Масс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к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m = Q / 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42880"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2.Температур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°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-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633600"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3.Удельная теплоемк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c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Дж/кг°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4.Удельная теплота парообразова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Дж/к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L = Q / 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5.Количество теплоты при нагреван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Q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Дж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Q=cm(t</a:t>
                      </a:r>
                      <a:r>
                        <a:rPr b="0" lang="ru-RU" sz="2000" spc="-1" strike="noStrike" baseline="-25000">
                          <a:solidFill>
                            <a:srgbClr val="004d4d"/>
                          </a:solidFill>
                          <a:latin typeface="Arial Black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–t</a:t>
                      </a:r>
                      <a:r>
                        <a:rPr b="0" lang="ru-RU" sz="2000" spc="-1" strike="noStrike" baseline="-25000">
                          <a:solidFill>
                            <a:srgbClr val="004d4d"/>
                          </a:solidFill>
                          <a:latin typeface="Arial Black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1097640"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6.Количество теплоты при парообразовании (конденсации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Q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Дж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Q = L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marL="13032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Q = - L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Тема урок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d4d"/>
                </a:solidFill>
                <a:latin typeface="Verdana"/>
              </a:rPr>
              <a:t>Решение задач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d4d"/>
                </a:solidFill>
                <a:latin typeface="Verdana"/>
              </a:rPr>
              <a:t>на расчет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d4d"/>
                </a:solidFill>
                <a:latin typeface="Verdana"/>
              </a:rPr>
              <a:t>удельной теплоты парообразования,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d4d"/>
                </a:solidFill>
                <a:latin typeface="Verdana"/>
              </a:rPr>
              <a:t>количества теплоты, отданного (полученного) телом при конденсации (парообразовании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Объект 3" descr=""/>
          <p:cNvPicPr/>
          <p:nvPr/>
        </p:nvPicPr>
        <p:blipFill>
          <a:blip r:embed="rId1"/>
          <a:stretch/>
        </p:blipFill>
        <p:spPr>
          <a:xfrm>
            <a:off x="-30240" y="76320"/>
            <a:ext cx="91742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277920"/>
          <a:ext cx="8534520" cy="393228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5080"/>
              </a:tblGrid>
              <a:tr h="1160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Парообразование 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5e855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конденсаци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5e855b"/>
                    </a:solidFill>
                  </a:tcPr>
                </a:tc>
              </a:tr>
              <a:tr h="29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 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и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Q = L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2d9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ри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&lt;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t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и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Q 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m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–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t</a:t>
                      </a:r>
                      <a:r>
                        <a:rPr b="1" i="1" lang="ru-RU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Q 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 L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Q 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Q 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 + Q </a:t>
                      </a:r>
                      <a:r>
                        <a:rPr b="1" i="1" lang="en-US" sz="2800" spc="-1" strike="noStrike" baseline="-25000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2d9d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ло  отдает тепл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Q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=  -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L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d2d9d2"/>
                    </a:solidFill>
                  </a:tcPr>
                </a:tc>
              </a:tr>
            </a:tbl>
          </a:graphicData>
        </a:graphic>
      </p:graphicFrame>
      <p:sp>
        <p:nvSpPr>
          <p:cNvPr id="121" name="Прямоугольник 5"/>
          <p:cNvSpPr/>
          <p:nvPr/>
        </p:nvSpPr>
        <p:spPr>
          <a:xfrm>
            <a:off x="533520" y="464832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 балла - правильно заполнены 3 столбца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 балла - правильно заполнены 2 столбца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 балл - правильно заполнен 1столбец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533520" y="284040"/>
          <a:ext cx="8153280" cy="2925720"/>
        </p:xfrm>
        <a:graphic>
          <a:graphicData uri="http://schemas.openxmlformats.org/drawingml/2006/table">
            <a:tbl>
              <a:tblPr/>
              <a:tblGrid>
                <a:gridCol w="2833560"/>
                <a:gridCol w="1519200"/>
                <a:gridCol w="3800520"/>
              </a:tblGrid>
              <a:tr h="2926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m =100г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=400 000 Дж/к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4d4d"/>
                          </a:solidFill>
                          <a:latin typeface="Verdana"/>
                        </a:rPr>
                        <a:t>Q </a:t>
                      </a: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Verdana"/>
                        </a:rPr>
                        <a:t>-?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С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0, 1 к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 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Решение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Q = Lm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Q = 0,1 кг *400000 Дж/кг= 40 000 Дж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  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Ответ: 40 000 Дж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 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3520" y="3581280"/>
          <a:ext cx="8229600" cy="2895840"/>
        </p:xfrm>
        <a:graphic>
          <a:graphicData uri="http://schemas.openxmlformats.org/drawingml/2006/table">
            <a:tbl>
              <a:tblPr/>
              <a:tblGrid>
                <a:gridCol w="3105000"/>
                <a:gridCol w="5124600"/>
              </a:tblGrid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m =0,2 кг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Q</a:t>
                      </a: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=80000 Дж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Решение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 = </a:t>
                      </a:r>
                      <a:r>
                        <a:rPr b="1" lang="en-US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Q</a:t>
                      </a: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 :</a:t>
                      </a:r>
                      <a:r>
                        <a:rPr b="1" lang="en-US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m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= 80000Дж / 0, 2 кг =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240 000 Дж/к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Ответ: 400 000 Дж/к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872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256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004d4d"/>
                          </a:solidFill>
                          <a:latin typeface="Arial Black"/>
                        </a:rPr>
                        <a:t>-?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1"/>
          <p:cNvSpPr/>
          <p:nvPr/>
        </p:nvSpPr>
        <p:spPr>
          <a:xfrm>
            <a:off x="3495600" y="3484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533520" y="533520"/>
          <a:ext cx="8305560" cy="2460600"/>
        </p:xfrm>
        <a:graphic>
          <a:graphicData uri="http://schemas.openxmlformats.org/drawingml/2006/table">
            <a:tbl>
              <a:tblPr/>
              <a:tblGrid>
                <a:gridCol w="2197080"/>
                <a:gridCol w="2085840"/>
                <a:gridCol w="4022640"/>
              </a:tblGrid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Дано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m =50г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L</a:t>
                      </a: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=2,3 * 10 </a:t>
                      </a:r>
                      <a:r>
                        <a:rPr b="1" lang="ru-RU" sz="2400" spc="-1" strike="noStrike" baseline="30000">
                          <a:solidFill>
                            <a:srgbClr val="eaeaea"/>
                          </a:solidFill>
                          <a:latin typeface="Arial Black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Дж/к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С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0, 05 к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2300000 Дж/кг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872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Решение: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= Lm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= 0,05 кг *2300000  Дж/кг= 115 000 Дж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 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Ответ: 115 000 Дж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</a:t>
                      </a: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-?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1872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-8597880" y="-674640"/>
            <a:ext cx="264016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04920" y="3352680"/>
          <a:ext cx="8458200" cy="3353040"/>
        </p:xfrm>
        <a:graphic>
          <a:graphicData uri="http://schemas.openxmlformats.org/drawingml/2006/table">
            <a:tbl>
              <a:tblPr/>
              <a:tblGrid>
                <a:gridCol w="3047760"/>
                <a:gridCol w="1309680"/>
                <a:gridCol w="4100760"/>
              </a:tblGrid>
              <a:tr h="356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Дано: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m =200г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t</a:t>
                      </a:r>
                      <a:r>
                        <a:rPr b="1" lang="ru-RU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 = 18°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t</a:t>
                      </a:r>
                      <a:r>
                        <a:rPr b="1" lang="ru-RU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= 78°С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с= 2400 Дж/(кг * °С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L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=0,85 * 10 </a:t>
                      </a:r>
                      <a:r>
                        <a:rPr b="1" lang="ru-RU" sz="2000" spc="-1" strike="noStrike" baseline="30000">
                          <a:solidFill>
                            <a:srgbClr val="eaeaea"/>
                          </a:solidFill>
                          <a:latin typeface="Arial Black"/>
                        </a:rPr>
                        <a:t>6 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Дж/к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 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-?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С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0, 2 к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 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 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 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850000 Дж/кг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Решение: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</a:t>
                      </a:r>
                      <a:r>
                        <a:rPr b="1" lang="en-US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=cm(t</a:t>
                      </a:r>
                      <a:r>
                        <a:rPr b="1" lang="en-US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–t</a:t>
                      </a:r>
                      <a:r>
                        <a:rPr b="1" lang="en-US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)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</a:t>
                      </a:r>
                      <a:r>
                        <a:rPr b="1" lang="en-US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2 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= Lm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</a:t>
                      </a:r>
                      <a:r>
                        <a:rPr b="1" lang="ru-RU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=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</a:t>
                      </a:r>
                      <a:r>
                        <a:rPr b="1" lang="ru-RU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1 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 + </a:t>
                      </a: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</a:t>
                      </a:r>
                      <a:r>
                        <a:rPr b="1" lang="ru-RU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</a:t>
                      </a:r>
                      <a:r>
                        <a:rPr b="1" lang="ru-RU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1 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= 2400 Дж/(кг * °С)* 0, 2 кг* (78°С- 18°С)= 28800 Дж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 </a:t>
                      </a:r>
                      <a:r>
                        <a:rPr b="1" lang="ru-RU" sz="2000" spc="-1" strike="noStrike" baseline="-25000">
                          <a:solidFill>
                            <a:srgbClr val="eaeaea"/>
                          </a:solidFill>
                          <a:latin typeface="Arial Black"/>
                        </a:rPr>
                        <a:t>2 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 = 0, 2 кг *850000  Дж/кг= 170 000 Дж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Q</a:t>
                      </a: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=28800 Дж+170 000 Дж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Arial Black"/>
                        </a:rPr>
                        <a:t>Ответ:  198 800 Дж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Black"/>
              </a:rPr>
              <a:t>Домашне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Black"/>
              </a:rPr>
              <a:t>1.Повторить теоретический материал § 20, ответить на вопрос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Black"/>
              </a:rPr>
              <a:t>2.Выполнить письменно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Black"/>
              </a:rPr>
              <a:t>№</a:t>
            </a:r>
            <a:r>
              <a:rPr b="0" lang="ru-RU" sz="3200" spc="-1" strike="noStrike">
                <a:solidFill>
                  <a:srgbClr val="eaeaea"/>
                </a:solidFill>
                <a:latin typeface="Arial Black"/>
              </a:rPr>
              <a:t>16 (5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Black"/>
              </a:rPr>
              <a:t>- Задание по выбору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 Black"/>
              </a:rPr>
              <a:t>1. Составить задачу на расчет количества теплоты при парообразован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 </a:t>
            </a: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Мне было интересно…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- Научился ли я решать задачи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- Я сегодня понял, что…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- Мне трудно было…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- На следующем уроке я хочу …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Ирина</cp:lastModifiedBy>
  <dcterms:modified xsi:type="dcterms:W3CDTF">2022-04-12T18:36:11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